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15AD-F7DA-4152-AF53-B5C336FBFC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F0F3-CC80-42FD-B536-B3A07434A8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4691-9265-4AC6-B043-F026C04DA7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149C-5B2A-4070-B0BD-A4497C4DCB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B9E8-AB69-48B8-8909-C1CDDFD48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484B-E815-4ADE-B33D-96328A1CFF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A22-1287-4618-9281-EE23DDD7A9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60D-F5FB-4E73-8414-B9EB9AD68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E5AF-F716-40DC-87EC-79C8D75FA5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0BF7-207F-42EB-B5C3-F66D6E0FF3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77CE-7991-4B27-BD13-2FD12D1EBF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E790-D7B8-4FE7-8715-7E6B4D2E1C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3529-686A-4699-AF1C-BB0FA1D05C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90F0-7C49-4C7A-A11C-AF67A5D5CB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94EC-57E2-4F5C-B3A8-07352A229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503B-9C83-4EBE-9B60-BCA6328C9F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0530-3E1A-4B17-9807-B1E73532B4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FE83-BD1F-4BD7-BCF3-F2AC3AF46F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28AD-6C7E-4AEC-B959-D5A8FBF1F5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BBC0-E155-4C5A-BBB0-92AE187E0C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A85C-CD9C-43C7-B467-AA4801B5CF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DEC4-B4BB-46F8-83E0-49FF095452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D736-219B-4785-A032-6F2A271CDA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64A9-7235-435F-A244-9AD18995E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680" y="0"/>
            <a:ext cx="135108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41200" y="196920"/>
            <a:ext cx="101448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0"/>
            <a:ext cx="135108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200" y="196920"/>
            <a:ext cx="101448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0C7D-259E-4C96-B67D-27EF1E7A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46240" y="1150920"/>
            <a:ext cx="7664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239760" y="2057400"/>
            <a:ext cx="85104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7CC-2A52-4078-BDA5-DCB695C3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4200" y="5857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8840" y="1486080"/>
            <a:ext cx="40273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2 – 2005:  The Program worked with many federal agencies. In most cases, the Program worked with people that were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early adopters of technology;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already familiar with Earth science data and remote sen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6-7:  The Program identified a need to build on these initial users and cultivate use by their peers within their respective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25760" y="1362240"/>
            <a:ext cx="4214880" cy="3079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59880" y="4079880"/>
            <a:ext cx="110628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2727360" y="112680"/>
            <a:ext cx="40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eeds &amp;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5440320"/>
            <a:ext cx="77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8+: The Program needs to access the “next level” of users – people that may have heard about and seen their peers use the Earth science products but don’t necessarily know how to use the products themselv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7960" y="1473120"/>
            <a:ext cx="808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and demonstrate new applications of NASA Earth observations and science to improve the nation’s ability to manage its natural resources, plan for the future, and respond to environmental thre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the nation’s capacity to use space-based observations in everyday decision 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3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ter communication between scientists and end users to ensure that NASA science and observations are optimized to serve both science and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4:  Help the nation confront the challenges and impacts of climate change through informed policy making and the development of effective adaptation and mitigation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228600"/>
                <a:tab algn="l" pos="457200"/>
                <a:tab algn="l" pos="914400"/>
                <a:tab algn="r" pos="2286000"/>
                <a:tab algn="l" pos="3949560"/>
                <a:tab algn="l" pos="457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16200" y="114480"/>
            <a:ext cx="54864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ed Science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gram Plan 2009-14 (Dra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76600" y="112680"/>
            <a:ext cx="41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Q Applied Scienc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4680" y="1200240"/>
            <a:ext cx="806112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ed Sciences Te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will focus on a specific set of applied, breakthrough topics that require a sustained, coordinated, and targeted research inves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pecific data products and provide applied feedback to ES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research scientists, data center representatives, applied scientists, and end users; the teams will include scientists sponsored by interested partner agenc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R&amp;A/Platform Science Team (e.g. Aura Science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Instrument Science Team (e.g., MODIS Science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Product Team (e.g., Ozone Processing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Field Campaign Event Team (e.g., ARC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25600" y="112680"/>
            <a:ext cx="48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ir Quality Program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rogram Manag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8280" y="1238400"/>
            <a:ext cx="829008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Aft>
                <a:spcPts val="60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TPS – Near Real Time Process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NRT (&lt;3 hrs) delivery of L1b radiance subsets, L2 &amp; L3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ty for existing NRT services &amp; products for MODIS, AIRS, AMSR-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so include OMI SO2 &amp; 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 to test and evaluate new and innovative NRT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34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duction 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ubset or modified scaling of a larger data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to enable targeted data products to facilitat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egun in 2008:   CALIPSO products,  MIS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34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99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-community Produc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applied representatives on science teams to identify opportunities for targeted or slightly-modifi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451"/>
              </a:spcAft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itial activity:  CALIPSO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26800" y="112680"/>
            <a:ext cx="544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lied Sciences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680" y="1528920"/>
            <a:ext cx="8061120" cy="43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, projects have focused strongly on decision support for Federal agencies, relying on them to extend benefits to state/local/tribal governments.  Often the projects involve contractors or university partners of the Federal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better tailor efforts to attract greater interest of private sector organizations in using Earth science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lici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ta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i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ypes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rror/Quality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5040" y="1714680"/>
            <a:ext cx="6062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26800" y="112680"/>
            <a:ext cx="544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pplied Sciences Program </a:t>
            </a:r>
            <a:br>
              <a:rPr sz="32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4680" y="1528920"/>
            <a:ext cx="806112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n who’s using data currently; what gaps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organizations to help with marke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 the Web network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hort clips for applications examples, data product acce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blem trying to solv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derutilization or proper 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41320" y="1246320"/>
            <a:ext cx="813600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IP Fed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ASA Data Policy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nuary 7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rtha Maiden &amp; Lawrence Frie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SA Headqua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arth Science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65160" y="5599440"/>
            <a:ext cx="5534280" cy="94068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arth Science Serving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54:07Z</dcterms:created>
  <dc:creator>NASA HQ USER</dc:creator>
  <dc:description/>
  <dc:language>en-US</dc:language>
  <cp:lastModifiedBy>lfriedl</cp:lastModifiedBy>
  <dcterms:modified xsi:type="dcterms:W3CDTF">2009-01-07T14:08:29Z</dcterms:modified>
  <cp:revision>491</cp:revision>
  <dc:subject/>
  <dc:title>Applied Sciences Program: Decision Support through Earth Science Results  Step 1 Review Board  ————  Cooperative Agreement Notice Released:  Sept. 17, 2004 </dc:title>
</cp:coreProperties>
</file>